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7068-24BC-4FF2-A7FE-5B1FBD3B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B8AA-4F50-48C5-85B9-C07B7D8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1F44-4C5A-4AB3-A944-FED63F5C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0EED-FB7B-4737-97B8-D9D631BC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110E-B9A8-40DC-B5C6-AEF7B050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591-6708-41B8-8B54-1AF250A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EB3B-38EA-4709-A792-071802B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E054-F0B4-4C2A-89E6-67A83586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AA2-05C6-401A-BD2E-3A5A7F6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4A86-DA62-43A7-8725-01E02EE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D5C2-4AFE-4F4A-B5A8-ADC99E52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0DA1-F81F-479F-BA6F-6BD9F8F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C59F-01E2-4953-AABB-2BAF4B7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D01B-68B8-46F2-A6B3-D41E87E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A781-990D-413E-9018-30266199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0EE-7BDE-4108-9E63-3177A0FC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68D-7EF7-4D24-B55E-70DFA979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9360-7671-4656-A59C-699C7070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91EE-B9CA-4A4A-BA4B-238E98D8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45D6-1332-419E-9C48-70222F63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8617-DE7F-4F7C-9CDF-44E0098E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68EF-144B-47AA-9D71-94E53B9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B93C-2DBC-4946-BE6B-B85A3B7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437E-3045-4F50-8D7C-5332638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57ED-71A1-4B5C-A73F-BA4B3C1B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F6A8-4098-4EEA-B29B-3911242D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UDI ARABI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190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 ‘ al Kh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Quar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5208480" cy="3316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57200" y="3352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3505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ivers or Permanen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5257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d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fy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,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2286000" y="1523880"/>
            <a:ext cx="6648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Million in Saudi Ara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yadh -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143000" y="2971800"/>
            <a:ext cx="6858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k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Mos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28600" y="30481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257800" y="472428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j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Q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w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2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600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24:56Z</dcterms:created>
  <dc:creator>Joe Dirt</dc:creator>
  <dc:description/>
  <dc:language>en-US</dc:language>
  <cp:lastModifiedBy>Joe Dirt</cp:lastModifiedBy>
  <dcterms:modified xsi:type="dcterms:W3CDTF">2008-01-03T17:40:08Z</dcterms:modified>
  <cp:revision>5</cp:revision>
  <dc:subject/>
  <dc:title>SAUDI ARABIA Chapter 17</dc:title>
</cp:coreProperties>
</file>